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079-8E59-4559-9D8C-0C4E745E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C740-1640-498E-88B6-FFE519B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DDB-4914-43E4-9C9A-829ED200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5107-EAF4-49FF-AD2A-6C685775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65FC-F44D-4986-9F09-E874ECAFC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5C7F-B010-4AB2-92CE-819040812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677-047F-433D-A624-84546CDF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6FC3-24C8-4ACD-BA26-C2D15A8C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AD6-4E48-470A-86F8-84C67E4D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C9EF-CA7B-4386-8803-D93C2872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7219-4FD6-464D-9BD5-871E1493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52DE-B4F1-47F2-81F8-DEDD905B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6F10-B6DB-422C-A4B1-B226557558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irtualprojectconsulting.com/images/sci_17_hand.gif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acebook.com/album.php?profile=1&amp;id=1316780379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304920"/>
            <a:ext cx="6271920" cy="314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olden Ratio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20620800">
            <a:off x="0" y="4495320"/>
            <a:ext cx="8801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-Kaevaan Setalvad of Grade 7.2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22860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autiful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00760" y="14479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52280"/>
            <a:ext cx="861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lebrity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1176480"/>
                <a:gridCol w="1185840"/>
                <a:gridCol w="1164960"/>
                <a:gridCol w="1175040"/>
                <a:gridCol w="1176120"/>
                <a:gridCol w="1174680"/>
                <a:gridCol w="1176480"/>
              </a:tblGrid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/Ey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/       Teeth         Ratio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: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: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: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beautiful people and normal people do have different ratios, beautiful people have a ratio close to 1.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2860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ng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619520" cy="2857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657600" y="4559400"/>
            <a:ext cx="4724280" cy="2298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den Ratio Exampl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cient Greek ruins from the Acropolis 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hens. Thisis where the Parthenon is buil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lden Ratio in your own bod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projectconsulting.com/images/sci_17_hand.gi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teresting Site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Eye- 3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the Bridge of my Nose- 2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Smile-8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Teeth when I smile- 6.5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2286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y Measurment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ridge width/Eye width= 2/3= 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uth width/Teeth width= 8/5.5= 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, the two are not exactly the same, but they are very close to each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228600"/>
            <a:ext cx="883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tio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 Width= 1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e Width=1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Width= 1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th Width= 10m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2280"/>
            <a:ext cx="89154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i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rofile_pic" descr="Kaevaan Setalv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6765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28600"/>
            <a:ext cx="861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y Friend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195560"/>
          <a:ext cx="7696080" cy="5310000"/>
        </p:xfrm>
        <a:graphic>
          <a:graphicData uri="http://schemas.openxmlformats.org/drawingml/2006/table">
            <a:tbl>
              <a:tblPr/>
              <a:tblGrid>
                <a:gridCol w="1100160"/>
                <a:gridCol w="1100160"/>
                <a:gridCol w="1096920"/>
                <a:gridCol w="1101600"/>
                <a:gridCol w="1096920"/>
                <a:gridCol w="1100160"/>
                <a:gridCol w="110016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/Ey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/       Teeth         Ratio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ks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h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: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: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: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s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: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k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: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: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sh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: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dha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: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: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a few of them were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y were not very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2286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ng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2280" y="228600"/>
            <a:ext cx="8763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dults Measurment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676520"/>
          <a:ext cx="8686440" cy="3124080"/>
        </p:xfrm>
        <a:graphic>
          <a:graphicData uri="http://schemas.openxmlformats.org/drawingml/2006/table">
            <a:tbl>
              <a:tblPr/>
              <a:tblGrid>
                <a:gridCol w="1448280"/>
                <a:gridCol w="1447560"/>
                <a:gridCol w="1448280"/>
                <a:gridCol w="1446120"/>
                <a:gridCol w="1447920"/>
                <a:gridCol w="14482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  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Eye   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Teeth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: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the two ratios are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very similar to those of my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228600"/>
            <a:ext cx="845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servations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4-19T14:34:2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